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935-9339-4239-A399-03064DB7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50D-3A4F-4ADC-A53A-F24B3680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8EA-4777-4FA6-B624-54604DAE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5FA-E46F-4C5B-B8B6-B68B8222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427-4EF8-437E-9BDF-4312E682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FA3-2DDD-4DB7-9A2C-A28C635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1DE-31E9-46A6-AD61-61488C98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825-3120-4865-98EA-896F0FED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FE9-F216-4507-AD6E-3EB9A19D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794-F25C-4742-9385-3680D7E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B94-6890-43C8-8480-27EA150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A0E-9426-4AEE-BFCC-6E3BEF60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77BA-A0E1-41F1-A51C-BDD5AD5F9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visitgreece.gr/en/greek_islands/crete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57240"/>
            <a:ext cx="518148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Baskerville Old Face"/>
              </a:rPr>
              <a:t>THE GREEK CIVILIZ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0760" y="2286000"/>
            <a:ext cx="4724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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GREECE2003 #1 (374)"/>
          <p:cNvPicPr/>
          <p:nvPr/>
        </p:nvPicPr>
        <p:blipFill>
          <a:blip r:embed="rId2"/>
          <a:stretch/>
        </p:blipFill>
        <p:spPr>
          <a:xfrm>
            <a:off x="76320" y="762120"/>
            <a:ext cx="396216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GREECE2003 #1 (453)"/>
          <p:cNvPicPr/>
          <p:nvPr/>
        </p:nvPicPr>
        <p:blipFill>
          <a:blip r:embed="rId1"/>
          <a:stretch/>
        </p:blipFill>
        <p:spPr>
          <a:xfrm>
            <a:off x="2286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3" name="WordArt 3"/>
          <p:cNvSpPr txBox="1"/>
          <p:nvPr/>
        </p:nvSpPr>
        <p:spPr>
          <a:xfrm>
            <a:off x="5410080" y="1066680"/>
            <a:ext cx="350532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ongest road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l the way to the s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4" descr="GREECE2003 #1 (456)"/>
          <p:cNvPicPr/>
          <p:nvPr/>
        </p:nvPicPr>
        <p:blipFill>
          <a:blip r:embed="rId2"/>
          <a:stretch/>
        </p:blipFill>
        <p:spPr>
          <a:xfrm>
            <a:off x="5638680" y="167652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GREECE2003 #1 (443)"/>
          <p:cNvPicPr/>
          <p:nvPr/>
        </p:nvPicPr>
        <p:blipFill>
          <a:blip r:embed="rId3"/>
          <a:stretch/>
        </p:blipFill>
        <p:spPr>
          <a:xfrm>
            <a:off x="20574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228600" y="1522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The Palace Entranc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en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ders from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- fort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al with T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ed them with the Troja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ians invaded 1200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5a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 rot="5400000">
            <a:off x="-2419200" y="3105000"/>
            <a:ext cx="62481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cena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0" name="Picture 3" descr="GREECE2003 #1 (555)"/>
          <p:cNvPicPr/>
          <p:nvPr/>
        </p:nvPicPr>
        <p:blipFill>
          <a:blip r:embed="rId1"/>
          <a:stretch/>
        </p:blipFill>
        <p:spPr>
          <a:xfrm>
            <a:off x="1447920" y="228600"/>
            <a:ext cx="5435640" cy="407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REECE2003 #1 (547)"/>
          <p:cNvPicPr/>
          <p:nvPr/>
        </p:nvPicPr>
        <p:blipFill>
          <a:blip r:embed="rId2"/>
          <a:stretch/>
        </p:blipFill>
        <p:spPr>
          <a:xfrm>
            <a:off x="6400800" y="30481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6629400" y="6172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on G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2057400" y="4114800"/>
            <a:ext cx="303840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ck to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in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REECE2003 #1 (54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GREECE2003 #1 (55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GREECE2003 #1 (542)"/>
          <p:cNvPicPr/>
          <p:nvPr/>
        </p:nvPicPr>
        <p:blipFill>
          <a:blip r:embed="rId1"/>
          <a:stretch/>
        </p:blipFill>
        <p:spPr>
          <a:xfrm>
            <a:off x="20383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ek Dark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50-750 B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simple life – Minoan and Mycenaean life bl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r writ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li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dys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s Greek culture and myths – Greek qualities uplifted and ho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ek Dark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50-750 B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myt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gods at Mount Oly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us – “king of gods” – ruler – son was A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s were anthropomorphic – had human characteristics, thus gods often had sinfu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ympics to please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ves from Greek cities – all cam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ned in 300’s A.D. by Roman emperor Theodosius I who banned pagan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nam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anner"/>
              </a:rPr>
              <a:t>Arg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anner"/>
              <a:ea typeface="Bann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ernard MT Condensed"/>
              </a:rPr>
              <a:t>Athenia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map-greece"/>
          <p:cNvPicPr/>
          <p:nvPr/>
        </p:nvPicPr>
        <p:blipFill>
          <a:blip r:embed="rId2"/>
          <a:stretch/>
        </p:blipFill>
        <p:spPr>
          <a:xfrm>
            <a:off x="2819520" y="1143000"/>
            <a:ext cx="61722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ge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209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ce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in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V="1">
            <a:off x="3581280" y="6095520"/>
            <a:ext cx="2286000" cy="38124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1523880" y="2362320"/>
            <a:ext cx="2895840" cy="9903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504360" y="5818320"/>
            <a:ext cx="3347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oan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rete island)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doni MT Black"/>
              </a:rPr>
              <a:t>Corinthia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doni MT Black"/>
              <a:ea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eira"/>
              </a:rPr>
              <a:t>Megari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eira"/>
              <a:ea typeface="Ke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haz"/>
              </a:rPr>
              <a:t>Sparta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haz"/>
              <a:ea typeface="Cha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ge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te – Island off c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tery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ssos, capital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htubs, fresc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royed 1400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out modern day Crete’s awesomeness here: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http://www.visitgreece.gr/en/greek_islands/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75680" y="640080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Heraklio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tery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GREECE2003 #1 (466)"/>
          <p:cNvPicPr/>
          <p:nvPr/>
        </p:nvPicPr>
        <p:blipFill>
          <a:blip r:embed="rId1"/>
          <a:stretch/>
        </p:blipFill>
        <p:spPr>
          <a:xfrm>
            <a:off x="228600" y="1828800"/>
            <a:ext cx="4822920" cy="419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GREECE2003 #1 (479)"/>
          <p:cNvPicPr/>
          <p:nvPr/>
        </p:nvPicPr>
        <p:blipFill>
          <a:blip r:embed="rId2"/>
          <a:stretch/>
        </p:blipFill>
        <p:spPr>
          <a:xfrm>
            <a:off x="5105520" y="1346040"/>
            <a:ext cx="39621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GREECE2003 #1 (474)"/>
          <p:cNvPicPr/>
          <p:nvPr/>
        </p:nvPicPr>
        <p:blipFill>
          <a:blip r:embed="rId1"/>
          <a:stretch/>
        </p:blipFill>
        <p:spPr>
          <a:xfrm>
            <a:off x="0" y="-15228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EECE2003 #1 (486)"/>
          <p:cNvPicPr/>
          <p:nvPr/>
        </p:nvPicPr>
        <p:blipFill>
          <a:blip r:embed="rId1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744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htu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GREECE2003 #1 (471)"/>
          <p:cNvPicPr/>
          <p:nvPr/>
        </p:nvPicPr>
        <p:blipFill>
          <a:blip r:embed="rId2"/>
          <a:stretch/>
        </p:blipFill>
        <p:spPr>
          <a:xfrm>
            <a:off x="0" y="190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REECE2003 #1 (458)"/>
          <p:cNvPicPr/>
          <p:nvPr/>
        </p:nvPicPr>
        <p:blipFill>
          <a:blip r:embed="rId1"/>
          <a:stretch/>
        </p:blipFill>
        <p:spPr>
          <a:xfrm>
            <a:off x="-182520" y="1428840"/>
            <a:ext cx="6673680" cy="5581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c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6477120" y="2433600"/>
            <a:ext cx="16794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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Vaulting Bull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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Li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GREECE2003 #1 (463)"/>
          <p:cNvPicPr/>
          <p:nvPr/>
        </p:nvPicPr>
        <p:blipFill>
          <a:blip r:embed="rId1"/>
          <a:stretch/>
        </p:blipFill>
        <p:spPr>
          <a:xfrm>
            <a:off x="3733920" y="-23760"/>
            <a:ext cx="533376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Engravers MT"/>
              </a:rPr>
              <a:t>The Palace at KNOS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GREECE2003 #1 (446)"/>
          <p:cNvPicPr/>
          <p:nvPr/>
        </p:nvPicPr>
        <p:blipFill>
          <a:blip r:embed="rId1"/>
          <a:stretch/>
        </p:blipFill>
        <p:spPr>
          <a:xfrm>
            <a:off x="533520" y="17524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GREECE2003 #1 (448)"/>
          <p:cNvPicPr/>
          <p:nvPr/>
        </p:nvPicPr>
        <p:blipFill>
          <a:blip r:embed="rId2"/>
          <a:stretch/>
        </p:blipFill>
        <p:spPr>
          <a:xfrm>
            <a:off x="472428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4876920" y="19051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Bookman Old Style"/>
              </a:rPr>
              <a:t>King's Megaron (throne)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Bookman Old Style"/>
              <a:ea typeface="Bookman Old Style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76320" y="4876920"/>
            <a:ext cx="4572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Queen's Megar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(yeah, it's a throne, too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3:19:38Z</dcterms:created>
  <dc:creator>Jennifer Simonds</dc:creator>
  <dc:description/>
  <dc:language>en-US</dc:language>
  <cp:lastModifiedBy>Rebecca Lopez</cp:lastModifiedBy>
  <dcterms:modified xsi:type="dcterms:W3CDTF">2015-10-08T06:45:53Z</dcterms:modified>
  <cp:revision>21</cp:revision>
  <dc:subject/>
  <dc:title>   The Greek     Civilization</dc:title>
</cp:coreProperties>
</file>